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524-1079-42EE-B6CF-8E3414F9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B3FD-AF3B-4515-9C77-EE55E38D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7C47-A3A2-4F01-BA0B-F753AA1F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6BF-F787-44E7-B91E-876EB522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4C8D-0BA1-4E7E-887C-CA02C40F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B9E3-BA51-45AC-8FAE-163E49E4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B0F6-42E7-4986-8CD6-19AD592D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BCF2-A3B6-41DA-BCB4-559D1377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36F9-1889-441E-A801-3CF01D80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B0D4-FAA9-45DC-86A7-2759F457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DAB4-53D9-4974-8D1F-E3FAA5B6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637-5A27-45F6-9F03-D83CF623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A6A4-8BB7-48A4-9485-14003F62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076F-9945-45B0-B8DA-DAE92A12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27F8-0DF5-4F5A-A225-207CD786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80C3-0096-46C3-96E1-DBE0BDC1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222F-2048-47E9-9B79-2641AF04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DB99-7BCB-4D5F-B50E-18330CA1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C3F-09D5-45D6-A41C-872CB746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2D5-338B-4118-8091-2E79A936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A91-3945-4FAB-B4AB-6432B21E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190-B8DE-4C94-85FB-622E2E15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2224-7CC1-4A48-ABF2-B585EE9C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C33C-0A36-4942-8DCD-65EE2E32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9FCD-2569-41E2-B7F2-EC5BA16EA2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C49F-83B9-4371-82E3-8494EBCB48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b7"/>
                </a:solidFill>
                <a:latin typeface="Arial Black"/>
              </a:rPr>
              <a:t>Міжнародні відносини у Давньому  Межиріччі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Особливості природно-кліматичних умов Дворічч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Ассирі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Фінікі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Вавил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Перська держ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b7"/>
                </a:solidFill>
                <a:latin typeface="Arial Black"/>
              </a:rPr>
              <a:t>Фінікі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Розташовувалась на вузькій смузі землі між Середземним морем і Ліванськими горами, вкритими могутніми кедрами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Великих рівнин і повноводних річок тут не було. Фінікійці ловили рибу в морі, садили виноградники й гаї оливкових дерев. Вино, оливкову олію і будівельний ліс вони обмінювали на пшеницю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Фінікія розташовувалася на перехресті морських торговельних шляхів. Сюди виходили суходольні шляхи купців із Дворіччя, а з фінікійських портів кораблі вирушали до Єгипту, Греції та інших далеких земель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Фінікія не була єдиною державою. Кожне місто мало власного царя. Найбільш багатими містами були Тир, Сидон, Біб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елику роль у житті фінікійців відігравала торгівля. Вони продавали вироби своїх ремісників і перепродували товари, привезені з інших земель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У тих землях, де фінікійці вели торгівлю, вони засновували свої колонії, чимало з яких перетворилися в майбутньому у квітучі міс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Фінікійці здобули також славу найбільш жорстоких і підступних піратів у всьому Середземному морі. Вони промишляли работоргівлею, вважаючи її найприбутковішою справою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Фінікійська колонізаці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652760"/>
            <a:ext cx="914400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b7"/>
                </a:solidFill>
                <a:latin typeface="Arial Black"/>
              </a:rPr>
              <a:t>Основні події історії стародавніх фінікійців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Близьк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500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е. – на східному узбережжі Середземного моря виникають найбільші фінікійські міста 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p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і Сід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200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е. – початок просування Фінікії до своєї могутност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14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е. – на північному узбережжі Африки (територія сучасного Тунісу) фінікійські купці заснували торговельну колонію Карфаг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29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е. – ассирійський цар Тіглатпаласа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ідкорив фінікійські міста і включив їх до складу своєї держа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Близьк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00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е. – єгипетський фараон Нех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йняв фінікійську команду й карфагенського мореплавця для здійснення морської подорожі навколо Африки. Експедиція тривала три ро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32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е. – 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ксандр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Македонський завойовує Фінікі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46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е. – Рим підкоряє Карфаген унаслідок Третьої Пунічної вій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b7"/>
                </a:solidFill>
                <a:latin typeface="Arial Black"/>
              </a:rPr>
              <a:t>Вавилон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лизько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894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. до н. е. племена амореїв заснували свою невелику державу у Дворіччі зі столицею в місті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вил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792—175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.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до н. е. – правління царя Хаммурапі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вилон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еретворюється на могутню державу Дворічч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595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. до н. е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вилон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ахопили племена хетт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518—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1155 рр. до н. е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вилон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еребуває під владою племен кассит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26—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1105 рр. до н. е. – звільнення від влади касситів. Короткочасний розквіт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вилона за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царюванн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вуходоносора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732 р. до н. е. – Вавилон опиняється у складі Ассирійської держави. Одночасно з цим боротьбу за Вавилон розпочинають семітські племена халдеї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626 - 529 pp. до н. е. – Доба Халдейського (Нововавилонського) царства. Вавилонія відроджується і стає найбільш могутньою державою на Близькому Сході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626 - 604 рр. до н. е. – правління у Вавилоні халдея Набопаласара. Переміг ассирійців і став царем Вавилон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604 - 562 pp. до н. е. за царювання Навуходоносора II Вавилон досяг розквіту. Він переміг Єгипет у війні за право володіння Сирією, захопив Єрусали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539 р. до н. е. Вавилон захопили війська перського царя Кір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331 р. до н. е. Вавилоном оволодів Олександр Македонськи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Нововавилонська держа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704960"/>
            <a:ext cx="91440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b7"/>
                </a:solidFill>
                <a:latin typeface="Arial Black"/>
              </a:rPr>
              <a:t>Розквіт Халдейського царства за правління 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Навуходоносора 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II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вуходоносо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авитель Халдейського (Нововавилонського) царства у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04 - 56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о н. е. Його сорокарічне правління стало періодом великих територіальних надбань, відродження і розквіту Вавилонії. Останній визначний правитель на вавилонському престол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ів успішні війни проти Єгипту та його азіатських союзників. У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05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е. завоював територію Сирії й Палестини, у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98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е. здійснив похід до Північної Аравії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97,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а потім у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86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е. зруйнував повсталий проти його влади Єрусалим, ліквідував іудейське царство, примусово переселив велику кількість мешканців Іудеї д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вилона (так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ваний «Вавилонський полон іудеїв») Після завоювання Іудеї підкорив усю Фінікію. Найдовше чинило опір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вилонянам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селення фінікійського міста Тіра 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близько тринадцяти років У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68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. Навуходоносор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дійснив спустошливий похід до Єгипту, який завершився поразко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а правлінн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вуходоносор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авилонія досягла вищої точки свого розвитку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Вавилон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тав головним торговим і ремісничим центром Передньої Азії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а наказом правителя на кордоні з Мідійським царством збудували міцні оборонні споруди, унаслідок чого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вилон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еретворився у неприступну фортец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Досягнута економічна могутність стала осно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ою </a:t>
            </a: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відродження культури Вавилонії. Було перебудовано Вавилон. Розпочалося будівництво так званої Вавилонської вежі — храму бога Мардука — і висячих садів Семіраміди. Було збільшено і реконструйовано іригаційні споруди, велося будівництво шляхів, палаців і храм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b7"/>
                </a:solidFill>
                <a:latin typeface="Arial Black"/>
              </a:rPr>
              <a:t>Географічне положення Персії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3213000"/>
            <a:ext cx="1871640" cy="1152720"/>
          </a:xfrm>
          <a:prstGeom prst="plus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ерсі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2781360"/>
            <a:ext cx="718920" cy="430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4365720"/>
            <a:ext cx="7189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3500280"/>
            <a:ext cx="43200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3500280"/>
            <a:ext cx="431640" cy="576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1052640"/>
            <a:ext cx="6480000" cy="1224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кавказзя і Середня Азі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5489640"/>
            <a:ext cx="6912000" cy="136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ерська затока, Аравійське море 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очаток Аравійської зато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492280"/>
            <a:ext cx="3059280" cy="2664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Узбережж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Малої Азі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56360" y="2637000"/>
            <a:ext cx="2987640" cy="26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Річка Ін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рівняно з Давнім Єгиптом міжнародні відносини в Давньому Межиріччі розвивались по-іншом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Єгипет, завдяки природно-географічному положенню, був тривалий час ізольований від зовнішнього світу. Межиріччя являло собою конгломерат міст-держав (понад два десятки – Урук, Кіш, Ур, Лагаш, Ніпур…). Вони постійно конкурували між собою. Час від часу в регіоні виділявся якийсь гегемон, що возвеличувався над інши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Тут постійно виникали коаліції, союзи, розвивались динамічні дипломатичні відносини, точились гострі війни і т.п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очато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I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ст. до н. е. Союз перських племен, очолюваний вождем Ахеменом, переселився до кордонів Еламу 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 область, яку стали називати Персідою. Початок перської династії царів Ахеменіді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I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середи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ст. до н. е. Перські племена перебували в залежності спочатку від Еламу, потім від Ассирії і, нарешті, від Мідії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58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е. прямий нащадок вождя Ахемена, Кі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чолив союз перських плем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53 - 55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д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 н. е. повстання перських племен проти мідійського володарювання, очолюване Кіром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авершилося перемогою персі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50 - 53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д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 н. е. – перський цар Кі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спочатку впродовж трьох років завоював усі країни, що входили до складу Мідійської держави, а потім Лідію і грецькі міста Малої Азії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546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.),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більшу частину Малої Азії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545 - 539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о н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.),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авилонію (538 р. до н. е.). Виникнення великої імперії Ахеменідів, що об'єднала більшість країн Стародавнього Сх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b7"/>
                </a:solidFill>
                <a:latin typeface="Arial Black"/>
              </a:rPr>
              <a:t>Перська імпері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184400"/>
            <a:ext cx="9144000" cy="52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025640"/>
            <a:ext cx="91440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b7"/>
                </a:solidFill>
                <a:latin typeface="Arial Black"/>
              </a:rPr>
              <a:t>Ассирі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сновні поді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ійськ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0" lang="uk-UA" sz="2300" spc="-1" strike="noStrike">
                <a:solidFill>
                  <a:srgbClr val="ffffff"/>
                </a:solidFill>
                <a:latin typeface="Arial"/>
              </a:rPr>
              <a:t>ст. до н. е. ассирійці першими в стародавньому світі оснастили свою армію залізною зброєю. Було створено постійну армію, що перебувала на повному державному забезпеченні й нічим не займалася, крім ведення війн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ffffff"/>
                </a:solidFill>
                <a:latin typeface="Arial"/>
              </a:rPr>
              <a:t>Основу ассирійської армії складала важка і легка піхота. Важка піхота озброювалася списами й мечами, мала захисні панцирі, шоломи й щити. Легка піхота воювала з луками і пращами для кидання каміння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ffffff"/>
                </a:solidFill>
                <a:latin typeface="Arial"/>
              </a:rPr>
              <a:t>Головну ударну силу ассирійської армії становили бойові колісниці. їх екіпаж складався з лучника й візничого, який був озброєний списом і захищав великим щитом лучника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ffffff"/>
                </a:solidFill>
                <a:latin typeface="Arial"/>
              </a:rPr>
              <a:t>Ассирійці вперше стали використовувати кінноту, озброєну довгими списами і луками, із яких вони стріляли на повному скаку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ffffff"/>
                </a:solidFill>
                <a:latin typeface="Arial"/>
              </a:rPr>
              <a:t>В ассирійській армії були спеціальні загони для спорудження доріг, мостів і переправ; розвідники, що з'ясовували кількість ворожого війська і його розташування.  Ассирійці одними з перших стали використовувати спеціальні пристрої для облоги міст і фортець. Вони будували міцні тарани, пересувні башти для облоги, метальні машини, які кидали кам'яні ядра або горщики з палаючою смолою на обложене місто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84360" y="3371760"/>
            <a:ext cx="6659640" cy="3486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243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b7"/>
                </a:solidFill>
                <a:latin typeface="Arial Black"/>
              </a:rPr>
              <a:t>Завоювання ассирійських царів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3213000"/>
            <a:ext cx="1871640" cy="1152720"/>
          </a:xfrm>
          <a:prstGeom prst="plus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Ассирі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2781360"/>
            <a:ext cx="718920" cy="430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4720" y="4365720"/>
            <a:ext cx="7189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3500280"/>
            <a:ext cx="43200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3500280"/>
            <a:ext cx="431640" cy="576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1052640"/>
            <a:ext cx="6480000" cy="1224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Урар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5489640"/>
            <a:ext cx="6912000" cy="136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авилонія, Єгип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92280"/>
            <a:ext cx="3059280" cy="2664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Кілікія, Сирі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Фінікі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зраїль, Іуде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2637000"/>
            <a:ext cx="2987640" cy="26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Мідія, Ел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Держава Саргона ІІ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603440"/>
            <a:ext cx="91440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Держава Ашшурбаніпа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641600"/>
            <a:ext cx="914400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4:42:13Z</dcterms:created>
  <dc:creator>Andriy</dc:creator>
  <dc:description/>
  <dc:language>en-US</dc:language>
  <cp:lastModifiedBy>Andrey</cp:lastModifiedBy>
  <dcterms:modified xsi:type="dcterms:W3CDTF">2009-09-02T07:53:18Z</dcterms:modified>
  <cp:revision>8</cp:revision>
  <dc:subject/>
  <dc:title>Слайд 1</dc:title>
</cp:coreProperties>
</file>