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0D4-4793-498B-BA4D-1996F28C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A1D-8D53-4398-8C60-67BBB82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398-42B3-453C-9CE7-3CAD5189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896-F4BF-406E-9D23-0EB183A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CC4-BBD9-448F-A709-7ADB9302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E91-14FD-4C12-9F5C-B56D1F7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FA3-F37C-4ECA-8B80-0E5C42F1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99E7-282D-45FC-B2C9-35C76C1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0A5-3CB1-4834-BA41-EAF82FB3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6412-963B-40AB-8A27-56857F6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CD5-B958-4863-927B-2AE1CB0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02C-F7FA-457A-9D6F-5FCA382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CBF7-B56A-4917-AA42-FC995E1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FE6-E13B-4011-9711-BB009D1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13F9-EF9C-4705-9472-922E424C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E77-6E29-4C08-8CF1-969C65D1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149D-3BE4-41CA-BAFA-E114CBB1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D24-1EED-4E59-ACC5-0183663E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A31-3AD3-4E05-838D-FF3FC500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408-E02D-4738-B148-AB50097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FDF-7887-4B06-B825-2D1B4DC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310-DE7D-463E-882A-07A03C6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956-6D59-4C4C-83AB-13FC4F8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D31-37F8-4097-A062-E0E5AC8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086-25A9-45F1-845F-18F4F805375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04A-B3FC-4E9F-B685-7B373FC18F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Монгольські завоювання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У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I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т. степи на північ від Великого Китайського муру до самого Байкалу заселяли численні кочові племена, які займалися скотарство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На поч. ХІІІ ст. ряд місцевих племен і ханств (тайджіути, наймани, кереіти, меркіти) були об'єднані під владою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Чингісхана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(Темучжина) і утворили єдину монгольську держа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06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р. на </a:t>
            </a:r>
            <a:r>
              <a:rPr b="0" i="1" lang="uk-UA" sz="3200" spc="-1" strike="noStrike">
                <a:solidFill>
                  <a:srgbClr val="2f1311"/>
                </a:solidFill>
                <a:latin typeface="Arial"/>
              </a:rPr>
              <a:t>курултаї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(зібранні) вождів племен, які визнали його владу, Темучжина проголосили Чингіс Каганом («Царем Всесвіту»). Так була заснована Монгольська держа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6272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Чингісхан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97200" y="404640"/>
            <a:ext cx="6346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ідкоривши собі більшість монголів, Чингісхан здійснив ряд перетворень, що зміцнили його владу, а згодом сприяло успіхам у завойовницьких походах. Зокрема, було запроваджено десяткову систему організації суспільства й армії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се доросле населення поділялося на тумени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10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ис. осіб), тисячі, сотні й десятки. Десяток зазвичай збігався з однією монгольською родиною. Такий поділ зберігався як у мирний, так й у воєнний час. На чолі кожного загону (десятку, сотні й т. д.) стояли командири, які призначалися з кращих воїнів. Було чітке підпорядкування нижчого вищому. Якщо хоча б один з десятку тікав із поля бою або зраджував свого хана, то покаранню підлягав увесь десяток, якщо у зраді був винний десяток у цілому – каралася сотня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Військово-територіальна організація монголі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981000"/>
            <a:ext cx="4464000" cy="43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еликий ха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73360"/>
            <a:ext cx="2700360" cy="574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Ліве крил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1773360"/>
            <a:ext cx="2771640" cy="57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раве крил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1773360"/>
            <a:ext cx="2771640" cy="574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Цент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852640"/>
            <a:ext cx="190800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1311"/>
                </a:solidFill>
                <a:latin typeface="Arial"/>
              </a:rPr>
              <a:t>Тум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85264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1311"/>
                </a:solidFill>
                <a:latin typeface="Arial"/>
              </a:rPr>
              <a:t>Тум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3789360"/>
            <a:ext cx="190836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Тисяч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724280"/>
            <a:ext cx="190800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отн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5661000"/>
            <a:ext cx="190800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есят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3789360"/>
            <a:ext cx="187164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Тисяч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72428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отн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566100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есят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1300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187280" y="1413000"/>
            <a:ext cx="33847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413000"/>
            <a:ext cx="331308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71280" y="2349360"/>
            <a:ext cx="43164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349360"/>
            <a:ext cx="165600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042560" y="3357720"/>
            <a:ext cx="57636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3357720"/>
            <a:ext cx="165744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476360" y="4292640"/>
            <a:ext cx="50328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4292640"/>
            <a:ext cx="230508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5229360"/>
            <a:ext cx="230508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95280" y="5229360"/>
            <a:ext cx="21564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Чингісхан проявив себе не тільки великим завойовником, але і блискучим політиком і адміністратором. Він зумів організувати твердий порядок управління завойованими країнами. Багато в чому цьому сприяло створення унікальної для свого часу системи комунікацій – державної дорожньо-поштової служби.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Ці перетворення дали змогу Чингісхану створити могутнє військо. Завдяки цьому порівняно нечисленний народ (близько 100 тис. воїнів: у кочовиків воїном був кожен четвертий або третій) зумів підкорити своїй владі півсвіту.</a:t>
            </a:r>
            <a:r>
              <a:rPr b="0" lang="ru-RU" sz="25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Як полководець Чингісхан відрізнявся пильною увагою до розвідки, прагненням до раптовості нападу, умілим маневруванням крупними масами кінноти. Його улюбленою тактикою було влаштування засідок з використанням спеціальних загонів для заманювання ворога. У битвах Чингісхан завжди намагався розчленувати сили супротивника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Монгольські завоювання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Монгольські держави у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ХІІІ - </a:t>
            </a: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ХІ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V</a:t>
            </a: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 ст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Наслідки монгольських завоюва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25360"/>
            <a:ext cx="313200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Зміни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сторичном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розвитку народі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хідної Європ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особли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руських князівств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125360"/>
            <a:ext cx="295272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Пограбува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 знище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іст, руйнуван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авні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ригацій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исте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1125360"/>
            <a:ext cx="270036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творе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йбільшо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мпері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в історі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людств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онгольське пануван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 декілька століть визначи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олю поневолених краї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8508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4724280"/>
            <a:ext cx="64818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4724280"/>
            <a:ext cx="0" cy="505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7:30:49Z</dcterms:created>
  <dc:creator>Andriy</dc:creator>
  <dc:description/>
  <dc:language>en-US</dc:language>
  <cp:lastModifiedBy>Andriy</cp:lastModifiedBy>
  <dcterms:modified xsi:type="dcterms:W3CDTF">2008-05-06T18:49:25Z</dcterms:modified>
  <cp:revision>2</cp:revision>
  <dc:subject/>
  <dc:title>Монгольські завоювання</dc:title>
</cp:coreProperties>
</file>