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A942C-2F77-4276-9CB5-7419479BB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39DC8-56B0-4688-AFD1-199CF722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C323-4EFA-48D1-A99C-DDC367C76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1798-D376-4D08-A8A1-B58562E39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C8907-D31D-41EE-81B7-F41779BBE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F52EF-0EC3-4D57-A729-8BCCAEDA4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CFB92-4515-42F3-8F0D-E959713CF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F5A44-81D4-4F23-9D9F-A73CEF95F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3B161-1B12-4B1C-9D51-A9AFB2635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AE30F-848F-4D52-BA16-C303944F3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1298A-E0A2-4A94-8BEE-1E4F7751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CCFA-452E-487C-8FEB-5BF5032E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8D25-1DEE-4139-A78C-ED500E1CD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F26B1-7FFA-4308-AB62-EB99F2FF6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64AA4-75E6-43A1-9738-948FAB52D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32503-5C8A-4CBA-88A2-FC3403764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97B43-3380-4B2B-8716-C00C78E8D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0B03-1C7B-4077-87C5-3976CE3B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54827-6D38-4114-AEA5-C2142063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E4102-8C47-450A-ACF5-C7ADA34A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22DA-A19C-4076-8F6A-FA0DE92AA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B45C-5CE2-454D-B1F1-1C3F574D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9231-8539-44DC-8434-0A12C542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4611-98D3-4978-ACF4-67FF2D8BB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25E2-6558-4EA1-B381-8A7CEDDF73AA}" type="slidenum">
              <a:rPr b="0" lang="uk-U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1F5A-4C69-45B0-A37B-370B2EA754D5}" type="slidenum">
              <a:rPr b="0" lang="uk-U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620640"/>
            <a:ext cx="8424720" cy="338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Ідеологічні передумови розвитку міжнародних відносин періоду Нового часу</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Гуго </a:t>
            </a:r>
            <a:r>
              <a:rPr b="0" i="1" lang="uk-UA" sz="2800" spc="-1" strike="noStrike">
                <a:solidFill>
                  <a:srgbClr val="ffffff"/>
                </a:solidFill>
                <a:latin typeface="Tahoma"/>
              </a:rPr>
              <a:t>Гроцій виховувався в родині університетської інтелігенції: його батько був куратором, а дядько Корненліс, ректором Лейденського університету. Гуго ще в дитинстві виявив неабиякі наукові обдарування і вже в 14 років вражав своїми знаннями вчених і правителів. Перебуваючи в свиті посланника Голландії Ольденбарневельде в Парижі, він так здивував своїми знаннями короля Анрі </a:t>
            </a:r>
            <a:r>
              <a:rPr b="0" i="1" lang="en-US" sz="2800" spc="-1" strike="noStrike">
                <a:solidFill>
                  <a:srgbClr val="ffffff"/>
                </a:solidFill>
                <a:latin typeface="Tahoma"/>
              </a:rPr>
              <a:t>IV</a:t>
            </a:r>
            <a:r>
              <a:rPr b="0" i="1" lang="ru-RU" sz="2800" spc="-1" strike="noStrike">
                <a:solidFill>
                  <a:srgbClr val="ffffff"/>
                </a:solidFill>
                <a:latin typeface="Tahoma"/>
              </a:rPr>
              <a:t>, </a:t>
            </a:r>
            <a:r>
              <a:rPr b="0" i="1" lang="uk-UA" sz="2800" spc="-1" strike="noStrike">
                <a:solidFill>
                  <a:srgbClr val="ffffff"/>
                </a:solidFill>
                <a:latin typeface="Tahoma"/>
              </a:rPr>
              <a:t>що той вигукнув в присутності придворних: "Ось чудо Голландії!"</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Вивчаючи твори античних класиків і право, Гроцій у </a:t>
            </a:r>
            <a:r>
              <a:rPr b="0" i="1" lang="ru-RU" sz="2800" spc="-1" strike="noStrike">
                <a:solidFill>
                  <a:srgbClr val="ffffff"/>
                </a:solidFill>
                <a:latin typeface="Tahoma"/>
              </a:rPr>
              <a:t>1598 </a:t>
            </a:r>
            <a:r>
              <a:rPr b="0" i="1" lang="en-US" sz="2800" spc="-1" strike="noStrike">
                <a:solidFill>
                  <a:srgbClr val="ffffff"/>
                </a:solidFill>
                <a:latin typeface="Tahoma"/>
              </a:rPr>
              <a:t>p</a:t>
            </a:r>
            <a:r>
              <a:rPr b="0" i="1" lang="ru-RU" sz="2800" spc="-1" strike="noStrike">
                <a:solidFill>
                  <a:srgbClr val="ffffff"/>
                </a:solidFill>
                <a:latin typeface="Tahoma"/>
              </a:rPr>
              <a:t>., </a:t>
            </a:r>
            <a:r>
              <a:rPr b="0" i="1" lang="uk-UA" sz="2800" spc="-1" strike="noStrike">
                <a:solidFill>
                  <a:srgbClr val="ffffff"/>
                </a:solidFill>
                <a:latin typeface="Tahoma"/>
              </a:rPr>
              <a:t>тобто в </a:t>
            </a:r>
            <a:r>
              <a:rPr b="0" i="1" lang="ru-RU" sz="2800" spc="-1" strike="noStrike">
                <a:solidFill>
                  <a:srgbClr val="ffffff"/>
                </a:solidFill>
                <a:latin typeface="Tahoma"/>
              </a:rPr>
              <a:t>15 </a:t>
            </a:r>
            <a:r>
              <a:rPr b="0" i="1" lang="uk-UA" sz="2800" spc="-1" strike="noStrike">
                <a:solidFill>
                  <a:srgbClr val="ffffff"/>
                </a:solidFill>
                <a:latin typeface="Tahoma"/>
              </a:rPr>
              <a:t>років, в Орлеанському університеті одержав ступінь доктора права</a:t>
            </a:r>
            <a:r>
              <a:rPr b="0" lang="uk-U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озробив теорію вільних морських просторів, якими б мали право користуватися усі країни світу. У 1605</a:t>
            </a:r>
            <a:r>
              <a:rPr b="0" lang="ru-RU" sz="3200" spc="-1" strike="noStrike">
                <a:solidFill>
                  <a:srgbClr val="ffffff"/>
                </a:solidFill>
                <a:latin typeface="Tahoma"/>
              </a:rPr>
              <a:t> </a:t>
            </a:r>
            <a:r>
              <a:rPr b="0" lang="en-US" sz="3200" spc="-1" strike="noStrike">
                <a:solidFill>
                  <a:srgbClr val="ffffff"/>
                </a:solidFill>
                <a:latin typeface="Tahoma"/>
              </a:rPr>
              <a:t>p</a:t>
            </a:r>
            <a:r>
              <a:rPr b="0" lang="ru-RU" sz="3200" spc="-1" strike="noStrike">
                <a:solidFill>
                  <a:srgbClr val="ffffff"/>
                </a:solidFill>
                <a:latin typeface="Tahoma"/>
              </a:rPr>
              <a:t>. </a:t>
            </a:r>
            <a:r>
              <a:rPr b="0" lang="uk-UA" sz="3200" spc="-1" strike="noStrike">
                <a:solidFill>
                  <a:srgbClr val="ffffff"/>
                </a:solidFill>
                <a:latin typeface="Tahoma"/>
              </a:rPr>
              <a:t>він написав трактат "Про право здобичі", частина якого була надрукована </a:t>
            </a:r>
            <a:r>
              <a:rPr b="0" lang="ru-RU" sz="3200" spc="-1" strike="noStrike">
                <a:solidFill>
                  <a:srgbClr val="ffffff"/>
                </a:solidFill>
                <a:latin typeface="Tahoma"/>
              </a:rPr>
              <a:t>1609 </a:t>
            </a:r>
            <a:r>
              <a:rPr b="0" lang="uk-UA" sz="3200" spc="-1" strike="noStrike">
                <a:solidFill>
                  <a:srgbClr val="ffffff"/>
                </a:solidFill>
                <a:latin typeface="Tahoma"/>
              </a:rPr>
              <a:t>р. під назвою "Вільне море або про право, що належить голландцям в царині торгівлі з Індією". Тут він доводив право вільного плавання кораблів під усіма прапорами у відкритому морі, доводячи необґрунтованість претензій на виняткове морське панування спочатку Іспанії й Португалії, а потім і Англі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У праці "Про право війни й миру“ (1625 р.) в основу своїх міркувань Гроцій кладе право природне </a:t>
            </a:r>
            <a:r>
              <a:rPr b="0" lang="ru-RU" sz="3200" spc="-1" strike="noStrike">
                <a:solidFill>
                  <a:srgbClr val="ffffff"/>
                </a:solidFill>
                <a:latin typeface="Tahoma"/>
              </a:rPr>
              <a:t>(</a:t>
            </a:r>
            <a:r>
              <a:rPr b="0" lang="en-US" sz="3200" spc="-1" strike="noStrike">
                <a:solidFill>
                  <a:srgbClr val="ffffff"/>
                </a:solidFill>
                <a:latin typeface="Tahoma"/>
              </a:rPr>
              <a:t>jus naturae</a:t>
            </a:r>
            <a:r>
              <a:rPr b="0" lang="ru-RU" sz="3200" spc="-1" strike="noStrike">
                <a:solidFill>
                  <a:srgbClr val="ffffff"/>
                </a:solidFill>
                <a:latin typeface="Tahoma"/>
              </a:rPr>
              <a:t>), </a:t>
            </a:r>
            <a:r>
              <a:rPr b="0" lang="uk-UA" sz="3200" spc="-1" strike="noStrike">
                <a:solidFill>
                  <a:srgbClr val="ffffff"/>
                </a:solidFill>
                <a:latin typeface="Tahoma"/>
              </a:rPr>
              <a:t>яке випливає з розумної природи людини. Визначаючи джерела міжнародного права, вчений у трактаті "Про право війни і миру" писав, що права в царині міжнародних відносин створюються за взаємною згодою держав з міркувань користі.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йна як така не забороняється ні природним правом, ні правом народів, ні божественними законами. Він поділяє війни на справедливі й несправедлив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Справедливою визнається війна, яка є відповіддю на правопорушення. Гроцій визнає цілком виправданими, наприклад, воєнні дії, до яких народ вдається з метою самооборони й захисту. Такі воєнні дії не йдуть врозріз, зокрема, з природним правом, оскільки безпека і турбота про самих себе не суперечить природі суспільства, поки ним не порушується чуже право.</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До несправедливих війн він відносить передовсім війни загарбницькі, розпочаті заради оволодіння чужими родючими землями та іншими багатствами, з метою підкорення й обернення в рабство інших народів всупереч їхньому бажанню. Ініціатори несправедливої війни відповідальні за її наслідки.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Слід гуманно ставитися до полонених, вбивство яких є ганебною справою. Він заперечує проти такого способу війни як спустошення. Слід уникати убивств, коли для цього є бодай найменша можливість При покаранні ворогів він закликає відрізняти ініціаторів війни й підпорядкованих їм осіб. Гнів переможця не повинен поширюватися на служителів релігійних культів, на людей, зайнятих наукою, на мирних землеробів, торговців тощо. Розвиває ідею про права некомбатантів (старих, жінок, дітей). Наголошує на недоторканності власності.</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глядаючи питання про договори й про зобов'язання держав одна перед одною, Гроцій відстоює непорушність таких договорів і зобов'язань. Порушення зобов'язань, за Гроцієм, заслуговує осуду й тоді, коли жертвою відповідного віроломства є недруг. Гроцій ратує за добросовісність у взаємовідносинах ворожих сторін і за дотримання укладених ними угод.</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оцій присвятив цілий розділ </a:t>
            </a:r>
            <a:r>
              <a:rPr b="0" lang="ru-RU" sz="2400" spc="-1" strike="noStrike">
                <a:solidFill>
                  <a:srgbClr val="ffffff"/>
                </a:solidFill>
                <a:latin typeface="Tahoma"/>
              </a:rPr>
              <a:t>(</a:t>
            </a:r>
            <a:r>
              <a:rPr b="0" lang="en-US" sz="2400" spc="-1" strike="noStrike">
                <a:solidFill>
                  <a:srgbClr val="ffffff"/>
                </a:solidFill>
                <a:latin typeface="Tahoma"/>
              </a:rPr>
              <a:t>XVIII</a:t>
            </a:r>
            <a:r>
              <a:rPr b="0" lang="ru-RU" sz="2400" spc="-1" strike="noStrike">
                <a:solidFill>
                  <a:srgbClr val="ffffff"/>
                </a:solidFill>
                <a:latin typeface="Tahoma"/>
              </a:rPr>
              <a:t>) </a:t>
            </a:r>
            <a:r>
              <a:rPr b="0" lang="uk-UA" sz="2400" spc="-1" strike="noStrike">
                <a:solidFill>
                  <a:srgbClr val="ffffff"/>
                </a:solidFill>
                <a:latin typeface="Tahoma"/>
              </a:rPr>
              <a:t>правам посла. Розділ цікавий тим, що описує звичаї, які склалися на початок </a:t>
            </a:r>
            <a:r>
              <a:rPr b="0" lang="en-US" sz="2400" spc="-1" strike="noStrike">
                <a:solidFill>
                  <a:srgbClr val="ffffff"/>
                </a:solidFill>
                <a:latin typeface="Tahoma"/>
              </a:rPr>
              <a:t>XVII</a:t>
            </a:r>
            <a:r>
              <a:rPr b="0" lang="ru-RU" sz="2400" spc="-1" strike="noStrike">
                <a:solidFill>
                  <a:srgbClr val="ffffff"/>
                </a:solidFill>
                <a:latin typeface="Tahoma"/>
              </a:rPr>
              <a:t> ст. в </a:t>
            </a:r>
            <a:r>
              <a:rPr b="0" lang="uk-UA" sz="2400" spc="-1" strike="noStrike">
                <a:solidFill>
                  <a:srgbClr val="ffffff"/>
                </a:solidFill>
                <a:latin typeface="Tahoma"/>
              </a:rPr>
              <a:t>царині посольського права. Більша чи менша недоторканність посла залежить від звичаїв країни, в якій він акредитований.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скільки, </a:t>
            </a:r>
            <a:r>
              <a:rPr b="0" lang="ru-RU" sz="2400" spc="-1" strike="noStrike">
                <a:solidFill>
                  <a:srgbClr val="ffffff"/>
                </a:solidFill>
                <a:latin typeface="Tahoma"/>
              </a:rPr>
              <a:t>- </a:t>
            </a:r>
            <a:r>
              <a:rPr b="0" lang="uk-UA" sz="2400" spc="-1" strike="noStrike">
                <a:solidFill>
                  <a:srgbClr val="ffffff"/>
                </a:solidFill>
                <a:latin typeface="Tahoma"/>
              </a:rPr>
              <a:t>пише Гроцій, </a:t>
            </a:r>
            <a:r>
              <a:rPr b="0" lang="ru-RU" sz="2400" spc="-1" strike="noStrike">
                <a:solidFill>
                  <a:srgbClr val="ffffff"/>
                </a:solidFill>
                <a:latin typeface="Tahoma"/>
              </a:rPr>
              <a:t>- </a:t>
            </a:r>
            <a:r>
              <a:rPr b="0" lang="uk-UA" sz="2400" spc="-1" strike="noStrike">
                <a:solidFill>
                  <a:srgbClr val="ffffff"/>
                </a:solidFill>
                <a:latin typeface="Tahoma"/>
              </a:rPr>
              <a:t>за міжнародним правом посол представляє особу свого монарха, він перебуває неначе поза територією тієї держави, в якій виконує свої функції. Звідси випливає, що він не зобов'язаний дотримуватися законів країни, до якої посланий (</a:t>
            </a:r>
            <a:r>
              <a:rPr b="1" lang="uk-UA" sz="2400" spc="-1" strike="noStrike">
                <a:solidFill>
                  <a:srgbClr val="ffffff"/>
                </a:solidFill>
                <a:latin typeface="Tahoma"/>
              </a:rPr>
              <a:t>концепція екстериторіальності</a:t>
            </a:r>
            <a:r>
              <a:rPr b="0" lang="uk-UA" sz="2400" spc="-1" strike="noStrike">
                <a:solidFill>
                  <a:srgbClr val="ffffff"/>
                </a:solidFill>
                <a:latin typeface="Tahoma"/>
              </a:rPr>
              <a:t>). Якщо він вчинив злочин, то належить або закрити на це очі, або вислати за межі держави; в разі, якщо злочин його заподіює країні, в якій він є послом, відчутної шкоди, слід вимагати від його володаря або покарання, або видачі посла. Такою ж недоторканністю користуються свита посла і його майно. Щодо права притулку в посольстві, то це право наявне лише в тому разі, якщо допускається сувереном, при якому посол акредитован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Праця Гуго Гроція "Про право війни і миру" побачила світ у розпал Тридцятирічної війни. Вона перевидавалася понад </a:t>
            </a:r>
            <a:r>
              <a:rPr b="0" i="1" lang="ru-RU" sz="2800" spc="-1" strike="noStrike">
                <a:solidFill>
                  <a:srgbClr val="ffffff"/>
                </a:solidFill>
                <a:latin typeface="Tahoma"/>
              </a:rPr>
              <a:t>50 </a:t>
            </a:r>
            <a:r>
              <a:rPr b="0" i="1" lang="uk-UA" sz="2800" spc="-1" strike="noStrike">
                <a:solidFill>
                  <a:srgbClr val="ffffff"/>
                </a:solidFill>
                <a:latin typeface="Tahoma"/>
              </a:rPr>
              <a:t>разів мовою оригіналу й десятки раз іншими мовами. Близько 1710 р. переклад трактату українською мовою було здійснено в Київській духовній академії. </a:t>
            </a:r>
            <a:endParaRPr b="0" lang="en-US" sz="2800" spc="-1" strike="noStrike">
              <a:solidFill>
                <a:srgbClr val="ffffff"/>
              </a:solidFill>
              <a:latin typeface="Tahoma"/>
            </a:endParaRPr>
          </a:p>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Виявити засади </a:t>
            </a:r>
            <a:r>
              <a:rPr b="0" lang="ru-RU" sz="2800" spc="-1" strike="noStrike">
                <a:solidFill>
                  <a:srgbClr val="ffffff"/>
                </a:solidFill>
                <a:latin typeface="Tahoma"/>
              </a:rPr>
              <a:t>справедливості </a:t>
            </a:r>
            <a:r>
              <a:rPr b="0" lang="uk-UA" sz="2800" spc="-1" strike="noStrike">
                <a:solidFill>
                  <a:srgbClr val="ffffff"/>
                </a:solidFill>
                <a:latin typeface="Tahoma"/>
              </a:rPr>
              <a:t>в міжнародних відносинах –</a:t>
            </a:r>
            <a:r>
              <a:rPr b="0" lang="ru-RU" sz="2800" spc="-1" strike="noStrike">
                <a:solidFill>
                  <a:srgbClr val="ffffff"/>
                </a:solidFill>
                <a:latin typeface="Tahoma"/>
              </a:rPr>
              <a:t> </a:t>
            </a:r>
            <a:r>
              <a:rPr b="0" lang="uk-UA" sz="2800" spc="-1" strike="noStrike">
                <a:solidFill>
                  <a:srgbClr val="ffffff"/>
                </a:solidFill>
                <a:latin typeface="Tahoma"/>
              </a:rPr>
              <a:t>ось головна мета, до якої прагнув видатний голландський вчений, здійснюючи своє дослідження. </a:t>
            </a:r>
            <a:endParaRPr b="0" lang="en-US" sz="2800" spc="-1" strike="noStrike">
              <a:solidFill>
                <a:srgbClr val="ffffff"/>
              </a:solidFill>
              <a:latin typeface="Tahoma"/>
            </a:endParaRPr>
          </a:p>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Багато прогресивних правових ідей Г. Гроція знайшли відображення у Вестфальському мирі. Вестфальський мирний договір став основою для розвитку міжнародного публічного права. Він став своєрідним пам'ятником Гуго Гроцію, який як дипломат, юрист і публіцист підготував відповідний правовий грунт для укладення цього мир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Барух Спіноз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0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Барух (Бенедикт) Спіноза (1632–1677) у своїх працях “Етика", "Богословсько-політичні трактати" торкався проблем формування нових суспільно-правових відносин. </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У міжнародно-правових відносинах Спіноза був прихильником безконфліктного розв'язання суперечностей. Він висував ідею захисту всіма державами миру, оскільки згідно з його концепцією всі народи і держави мають природне право на національно-державний суверенітет.</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Учення Спінози значно випередило свій час. У ньому були розроблені й закладені основи демократичного устрою суспільства, правові норми міждержавних взаємовідносин. Ці принципи пізніше поступово реалізовувалися в житті й формуванні нового голландського суспільства, а пізніше в інших країнах світу, які стали на шлях побудови нових суспільних відносин, заснованих на демократичних засадах, і є актуальними й на сьогодн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27280" y="1196640"/>
            <a:ext cx="291636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Б. Спіноза</a:t>
            </a:r>
            <a:endParaRPr b="0" lang="en-US" sz="3600" spc="-1" strike="noStrike">
              <a:solidFill>
                <a:srgbClr val="e5ffff"/>
              </a:solidFill>
              <a:latin typeface="Tahoma"/>
            </a:endParaRPr>
          </a:p>
        </p:txBody>
      </p:sp>
      <p:pic>
        <p:nvPicPr>
          <p:cNvPr id="107" name="" descr=""/>
          <p:cNvPicPr/>
          <p:nvPr/>
        </p:nvPicPr>
        <p:blipFill>
          <a:blip r:embed="rId2"/>
          <a:stretch/>
        </p:blipFill>
        <p:spPr>
          <a:xfrm>
            <a:off x="0" y="0"/>
            <a:ext cx="6162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9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85"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Епоха сучасності починається з руйнуванням середньовічного ладу. Середньовічний устрій й відповідні світовідчуття починають руйнуватися в XIV ст. Цей процес тривав протягом XV і XVI ст., а в XVII ст. набувають визначеності обриси нової картини світу.</a:t>
            </a:r>
            <a:r>
              <a:rPr b="0" lang="ru-RU" sz="2800" spc="-1" strike="noStrike">
                <a:solidFill>
                  <a:srgbClr val="ffffff"/>
                </a:solidFill>
                <a:latin typeface="Tahoma"/>
              </a:rPr>
              <a:t> </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ротягом </a:t>
            </a:r>
            <a:r>
              <a:rPr b="0" lang="en-US" sz="2800" spc="-1" strike="noStrike">
                <a:solidFill>
                  <a:srgbClr val="ffffff"/>
                </a:solidFill>
                <a:latin typeface="Tahoma"/>
              </a:rPr>
              <a:t>XV </a:t>
            </a:r>
            <a:r>
              <a:rPr b="0" lang="uk-UA" sz="2800" spc="-1" strike="noStrike">
                <a:solidFill>
                  <a:srgbClr val="ffffff"/>
                </a:solidFill>
                <a:latin typeface="Tahoma"/>
              </a:rPr>
              <a:t>– </a:t>
            </a:r>
            <a:r>
              <a:rPr b="0" lang="en-US" sz="2800" spc="-1" strike="noStrike">
                <a:solidFill>
                  <a:srgbClr val="ffffff"/>
                </a:solidFill>
                <a:latin typeface="Tahoma"/>
              </a:rPr>
              <a:t>XVII</a:t>
            </a:r>
            <a:r>
              <a:rPr b="0" lang="uk-UA" sz="2800" spc="-1" strike="noStrike">
                <a:solidFill>
                  <a:srgbClr val="ffffff"/>
                </a:solidFill>
                <a:latin typeface="Tahoma"/>
              </a:rPr>
              <a:t> ст. змінилися підстави і критерії оцінювання політики. Політика завжди була ареною боротьби за владу і завжди вона була поєднана з несправедливістю. Але у середньовіччі політика включалася в загальний морально-релігійний порядок, у цілісність держави й церкви як двох форм Божого панування на землі. І тому політика оцінювалася за їхніми критерія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 період Нового часу запроваджується нова мораль, що базувалась на принципах раціоналізму. Політична діяльність починає ототожнюватись з природним  середовищем, що живе за своїми законами.</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елігія перестає відігравати помітну роль у політиці. Політика не зв'язується з мораллю.</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Основними принципами зовнішньої політики стають: </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Державний інтерес;</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Принцип природних кордонів;</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Принцип балансу си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Погляди на зовнішню політику Н. Макіавеллі</a:t>
            </a:r>
            <a:endParaRPr b="0" lang="en-US" sz="2800" spc="-1" strike="noStrike">
              <a:solidFill>
                <a:srgbClr val="e5ffff"/>
              </a:solidFill>
              <a:latin typeface="Tahoma"/>
            </a:endParaRPr>
          </a:p>
        </p:txBody>
      </p:sp>
      <p:sp>
        <p:nvSpPr>
          <p:cNvPr id="88"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аніше інших і, мабуть, найбільш послідовно ці нові погляди на державу й політику були виражені </a:t>
            </a:r>
            <a:r>
              <a:rPr b="1" lang="uk-UA" sz="3200" spc="-1" strike="noStrike">
                <a:solidFill>
                  <a:srgbClr val="ffffff"/>
                </a:solidFill>
                <a:latin typeface="Tahoma"/>
              </a:rPr>
              <a:t>Н. Макіавеллі</a:t>
            </a:r>
            <a:r>
              <a:rPr b="0" lang="uk-UA" sz="3200" spc="-1" strike="noStrike">
                <a:solidFill>
                  <a:srgbClr val="ffffff"/>
                </a:solidFill>
                <a:latin typeface="Tahoma"/>
              </a:rPr>
              <a:t> (1469–1527). Він розкрив справжні основи «реалістичної» політики. Із цинічною відвертістю, необмеженою ніякими міркуваннями морального порядку, він намалював у своєму творі «Государ» тип монарха, якому все дозволено заради однієї мети – безмежного розширення своєї влади.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227280" y="274680"/>
            <a:ext cx="291636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Н. Макіавеллі</a:t>
            </a:r>
            <a:endParaRPr b="0" lang="en-US" sz="2800" spc="-1" strike="noStrike">
              <a:solidFill>
                <a:srgbClr val="e5ffff"/>
              </a:solidFill>
              <a:latin typeface="Tahoma"/>
            </a:endParaRPr>
          </a:p>
        </p:txBody>
      </p:sp>
      <p:pic>
        <p:nvPicPr>
          <p:cNvPr id="90" name="" descr=""/>
          <p:cNvPicPr/>
          <p:nvPr/>
        </p:nvPicPr>
        <p:blipFill>
          <a:blip r:embed="rId2"/>
          <a:stretch/>
        </p:blipFill>
        <p:spPr>
          <a:xfrm>
            <a:off x="0" y="0"/>
            <a:ext cx="616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Слід мати на увазі, – писав Макіавеллі у своєму «Государі», – що є два роди боротьби: один – за допомогою законів, інший – сили. Перший властивий людям, другий – звірам, але тому що перший часто виявляється недостатнім, то доводиться прибігати до другого. Тому государеві необхідно користуватися прийомами й звіра й людини. Якщо ж государ примушений навчитися прийомів звіра, то він повинен вибрати із числа звірів лисицю й лева, тому що лев не може захиститися від змії, лисиця – від вовків. Отже, треба бути лисицею, щоб розпізнати змій, і левом, щоб розправлятися з вовками».</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осудареві необхідно мати дух настільки гнучким, щоб приймати напрямок, зумовлений обставинами і не ухилятися від шляху добра, якщо це можливо, але вміти вступати й на шлях зла, якщо це необхідно».</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лочин, вчинений в ім'я Батьківщини – “славний злочин”.</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ле, звільняючи свого государя від усяких моральних обмежень, Макіавеллі мріяв використати честолюбство й жадібність італійських володарів в інтересах об'єднання Італії.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e5ffff"/>
                </a:solidFill>
                <a:latin typeface="Tahoma"/>
              </a:rPr>
              <a:t>Гуго Гроцій</a:t>
            </a:r>
            <a:endParaRPr b="0" lang="en-US" sz="3200" spc="-1" strike="noStrike">
              <a:solidFill>
                <a:srgbClr val="e5ffff"/>
              </a:solidFill>
              <a:latin typeface="Tahoma"/>
            </a:endParaRPr>
          </a:p>
        </p:txBody>
      </p:sp>
      <p:sp>
        <p:nvSpPr>
          <p:cNvPr id="94"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уго Гроцій (1585–1645)</a:t>
            </a:r>
            <a:r>
              <a:rPr b="0" lang="ru-RU" sz="3200" spc="-1" strike="noStrike">
                <a:solidFill>
                  <a:srgbClr val="ffffff"/>
                </a:solidFill>
                <a:latin typeface="Tahoma"/>
              </a:rPr>
              <a:t> </a:t>
            </a:r>
            <a:r>
              <a:rPr b="0" lang="uk-UA" sz="3200" spc="-1" strike="noStrike">
                <a:solidFill>
                  <a:srgbClr val="ffffff"/>
                </a:solidFill>
                <a:latin typeface="Tahoma"/>
              </a:rPr>
              <a:t>(історик, юрист, дипломат) вважається засновником міжнародного права. Він створив концепцію міжнародного права, в основу якого було покладено принцип договірних міждержавних взаємовідносин. Це було прогресивне вчення, тому що закладало основи сучасних демократичних міждержавних відносин, на яких у подальшому створювалися цілі системи нових міждержавних правових відноси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80000" y="274680"/>
            <a:ext cx="3106800" cy="38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Г. Гроцій</a:t>
            </a:r>
            <a:endParaRPr b="0" lang="en-US" sz="4400" spc="-1" strike="noStrike">
              <a:solidFill>
                <a:srgbClr val="e5ffff"/>
              </a:solidFill>
              <a:latin typeface="Tahoma"/>
            </a:endParaRPr>
          </a:p>
        </p:txBody>
      </p:sp>
      <p:pic>
        <p:nvPicPr>
          <p:cNvPr id="96" name="" descr=""/>
          <p:cNvPicPr/>
          <p:nvPr/>
        </p:nvPicPr>
        <p:blipFill>
          <a:blip r:embed="rId2"/>
          <a:stretch/>
        </p:blipFill>
        <p:spPr>
          <a:xfrm>
            <a:off x="0" y="0"/>
            <a:ext cx="54482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8:40:05Z</dcterms:created>
  <dc:creator>Andriy</dc:creator>
  <dc:description/>
  <dc:language>en-US</dc:language>
  <cp:lastModifiedBy>Customer</cp:lastModifiedBy>
  <dcterms:modified xsi:type="dcterms:W3CDTF">2011-10-23T08:49:02Z</dcterms:modified>
  <cp:revision>9</cp:revision>
  <dc:subject/>
  <dc:title>Ідеологічні передумови розвитку міжнародних відносин періоду Нового Часу </dc:title>
</cp:coreProperties>
</file>