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CE4-3643-4F70-8111-D011AC4D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F78-AE5C-496D-9EBF-1D517CA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27-8E65-4FDA-97D4-27D89DC6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E49-11BF-4643-921F-AFF2BAF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CDD-AC10-4BDF-9A5B-7D32B95B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07E4-4A1B-4C7B-B2BE-8D4A2D7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2AA-BA30-4370-961F-6B092E6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F0A-5F30-4854-BBA3-2153D1B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A296-6A38-4BF3-B984-2985B9F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2EF7-29D8-4EF9-9C99-6A0C9683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450E-CCB2-4364-B3F7-05F7DDAB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3DB-035E-49D4-AE42-149E38FC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7023-5BE8-47E1-9421-C4C0FEC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B8CD-BF48-4B8A-A419-6E7F565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140-02CD-470A-A340-24F9AF8D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410D-2744-4560-8420-B5448C4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ED4-6C63-4A87-B84C-5F90CDB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559-0018-4E80-9ADD-BFEB0C3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836-D665-4486-93AD-841FE49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335-6195-4141-B790-5518A73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143-1DCE-4A00-BB7C-11A1520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EDB-8B91-428A-9414-D7086A8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4B4-BCDF-473C-902B-617D01B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B7D-26FE-4DD1-9A86-BA258DA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F20E-9C70-46E9-B00E-D89D687D392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5F9E-2987-4DC2-BA54-5C514DF34F4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Основні риси розвитку міжнародних відносин в умовах середньовічч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5229000"/>
            <a:ext cx="564048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Феодалізм як основа середньовічного ладу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Феодалізм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– суспільний лад, що базувався на пануванні натурального господарства, власності феодала на основний засіб виробництва – землю, наявності трьох форм феодальної ренти, феодальній ієрархії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Схематичне зображення феод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ередньовічч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овий час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9360"/>
            <a:ext cx="313200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Культурно-ідеологіч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549360"/>
            <a:ext cx="316692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оціально-економіч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549360"/>
            <a:ext cx="255600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олітич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52640"/>
            <a:ext cx="341964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анування релігій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вітогляду, що базувавс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а есхатологічних уявлення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052640"/>
            <a:ext cx="180036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ануванн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атураль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господар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1052640"/>
            <a:ext cx="378000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Монархічно-аристократичні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форми правлінн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(ранньофеодальна монархія </a:t>
            </a:r>
            <a:r>
              <a:rPr b="1" lang="en-US" sz="1600" spc="-1" strike="noStrike">
                <a:solidFill>
                  <a:srgbClr val="2f1311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станово-представницька </a:t>
            </a:r>
            <a:r>
              <a:rPr b="1" lang="en-US" sz="1600" spc="-1" strike="noStrike">
                <a:solidFill>
                  <a:srgbClr val="2f1311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абсолютизм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Феодальна роздроблені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013360"/>
            <a:ext cx="277164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ереважанн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гуманістичног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аціональн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(оптимістичного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вітогляд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5013360"/>
            <a:ext cx="302436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Товарно-грошові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капіталістичні відноси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5013360"/>
            <a:ext cx="298764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Буржуазно-демократичні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форми правлінн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781360"/>
            <a:ext cx="9144000" cy="201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2f1311"/>
                </a:solidFill>
                <a:uFillTx/>
                <a:latin typeface="Arial"/>
              </a:rPr>
              <a:t>Основні фактори, що вплинули на еволюцію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Хрестові поход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озвиток середньовічних міст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енесанс і гуманізм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Великі географічні відкритт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еформаці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росвітниц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76000" y="404640"/>
            <a:ext cx="302436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40464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404640"/>
            <a:ext cx="331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565360"/>
            <a:ext cx="27370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284360" y="2565360"/>
            <a:ext cx="3600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2565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02920" y="4797360"/>
            <a:ext cx="3024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4797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4797360"/>
            <a:ext cx="33130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Особливості міжнародних відносин в умовах середньовіччя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7885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ідсутність централізованих національних держав, як основних суб'єктів міжнародних відноси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уб'єктами міжнародних відносин виступали окремі феодали, міста, церк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Шлюбна дипломатія як важлива складова тогочасних міжнародних відноси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начний вплив релігійного чинника на розвиток міжнародних відноси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4:27:51Z</dcterms:created>
  <dc:creator>User</dc:creator>
  <dc:description/>
  <dc:language>en-US</dc:language>
  <cp:lastModifiedBy>Customer</cp:lastModifiedBy>
  <dcterms:modified xsi:type="dcterms:W3CDTF">2011-10-23T08:32:14Z</dcterms:modified>
  <cp:revision>11</cp:revision>
  <dc:subject/>
  <dc:title>Основні тенденції розвитку міжнародних відносин в умовах середньовіччя</dc:title>
</cp:coreProperties>
</file>